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72F9-FDF7-495C-9617-AD070956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611D-9309-40CE-80A4-0B94A9A5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11B6-D40A-40A4-BAB3-7C03D775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5FF3-68A8-41E9-908B-4B4FD7F6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16DF-174D-4429-B62C-30E3A3A5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E224-A7A5-4296-88E8-AB0419A6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2EBF-9CB2-4FD2-81A6-955C906B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3AEF-ACEF-425B-A2AD-D85BDB05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649B-AE66-4D93-B36A-CA662694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5ECD-1652-431F-94DC-6648A33C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FC4E-2744-46CF-A799-4F8B9DF4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6FC-4041-4503-ACE6-7C32FEA0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E251-698A-429E-8B4B-3BD0B922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837A-47AE-42CB-962C-4D3CBD7D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E8B6-27D8-412C-86BF-4B6B040F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8E4B-7656-45B4-8636-5A729D94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7EB3-76D4-44A9-AA1D-CD94C719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E2C4B-9D7E-4A44-84F4-F1AD9828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0A5E5-8B55-48AC-A8F9-3FEAF6D8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D3103-FB0C-41B7-9EFE-C21DE19B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C661C-360D-48C8-B67B-1736C84D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D7F8B-A711-4914-A670-990A85DE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D408-E6B7-477A-806B-31CFBEE7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A87C9-6153-43C9-895A-703751E4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40CF6-B2B2-4E6F-BE1B-1B839580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ABD19-5325-4F2B-A7B1-F8F5E4E4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422CB-DB5E-41A8-BEEB-4C964034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C77CE-2EE4-4598-8416-A9121C2D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2BA5C-327D-492C-A0D0-64880DCF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E9FB9-35EA-4351-81A1-5B49D477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90A80-8061-4783-8C42-A9F8E529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45D52-16E4-4C46-9473-CB0BB497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4DFFD-22CB-4319-AE23-54F3C492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9CB1-C9C4-42B3-9697-95EF802C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04787-3D47-46D3-B0F2-23EFB7DF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AB101-BE98-494B-AD9B-747AF8D9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399DD-D033-4AD2-B2E2-C3F9F5FA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0AD69-D4E9-4865-999E-EB41D99C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14F13-D9BE-4222-A438-1A2F19F0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CC72B-5C75-4CB3-A7F4-1EAC3C80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89EB2-E864-491D-92AB-7346743B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084FC-053B-46BC-9FE0-97C91939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B8912-EDDE-4932-BAD2-16E7083E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15B44-FD64-4D78-8861-620CE2D1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044D-0707-442B-99E6-98A86AA3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A1B52-6BB0-45B9-BA98-61426008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4AA3E-5330-4380-B0ED-02028A84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97079-CFCE-412C-8437-203C5C7C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7FE72-8AE5-439C-BA53-A992C5E4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B569E-F6B6-4FF9-88B7-8196289B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88EDD-2F43-4D6B-A825-8E4F511E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50F3C-775F-4B3F-9DB4-2F2C5D1B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9CD86-A5AF-4643-92F5-F8A1D448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A6BCF-1E46-49A4-A09E-E79FA2D4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F8A44-D747-416E-B93B-028AD34B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9124-7A6D-4317-8D8D-059CA03B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ABCD1-2836-4E75-825E-23059190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F79C2-3896-4329-BDD6-59A4C105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572FF-253E-4A9B-BC3E-43A8EF6E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5957C-2DA1-457E-B296-ED5812F5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4F1D9-2F90-4B3A-A566-C7F06EF2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4247B-3BC2-4913-95E6-9A06E9EC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76B30-B944-4E42-89D3-F7BD922C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9D8DB-87EB-430E-9503-56A863EA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2F1DD-8A32-4B02-BBA7-F58625E2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948D8-437F-49BF-920E-0D7A1E4A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238-4425-403F-AECD-69E36C0A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68E3D-EAA4-42CC-B39E-606DE23D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9C8DA-9C23-4CB5-9FFB-8B57261B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68BD7-6778-49F7-B163-F6944645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9BD1-CA25-4A5B-9EC5-7AE52CCF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1B9C-30DB-4AAE-8C76-25CAAACA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9878-BA4A-438B-BF27-5C32CFA96AC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B2B6-3026-4C0A-8D4C-EDE6BD037C5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655F-C8C4-4E8D-BDE9-C93C823576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7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7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EA84-8BED-4074-BFCE-124CB27ADAA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6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53C7-DF00-40E9-984B-BF7B4CE85B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243D-AD94-485A-BBFE-8D9BF628DB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00720" y="188640"/>
            <a:ext cx="2843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ЗДОРОВЬЕ ЧЕЛОВЕКА</a:t>
            </a:r>
            <a:br>
              <a:rPr sz="1200"/>
            </a:b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слайд1</a:t>
            </a:r>
            <a:br>
              <a:rPr sz="4000"/>
            </a:br>
            <a:br>
              <a:rPr sz="1200"/>
            </a:b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68280" y="2997000"/>
            <a:ext cx="7446960" cy="1198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ЗДОРОВЬЕ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914400" y="2204640"/>
            <a:ext cx="8229600" cy="576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b7"/>
                </a:solidFill>
                <a:latin typeface="Arial"/>
              </a:rPr>
              <a:t>ФАКТОРЫ, РАЗРУШАЮЩИЕ </a:t>
            </a:r>
            <a:br>
              <a:rPr sz="2600"/>
            </a:br>
            <a:br>
              <a:rPr sz="17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03640" y="5805360"/>
            <a:ext cx="57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Работу выполнила: учитель биологии и хим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МАОУ «Средняя общеобразовательная шко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п. Большая Вишера» Мохова Ирина Стефано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642520" cy="7923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Действие наркотиков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68360" y="1125360"/>
            <a:ext cx="4038480" cy="345600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физическое состояние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Общее истощ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ннее поседение и полыс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рушение зуб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сстройство работы внутренних органов, прежде всего сердца и легк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Формирование слабоумия и общая деградация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Нарушение походки и координации движений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642920" y="1125360"/>
            <a:ext cx="4038840" cy="3456000"/>
          </a:xfrm>
          <a:prstGeom prst="rect">
            <a:avLst/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психическую деятельность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езко сужается круг интере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Падает морально – этический урове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Мышление теряет логическую связь, появляются элементы бре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виваются рассеянность, забывчивость, переходящие в глубокую потерю памя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Грубость, злобность, необузданность, жесто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4653000"/>
            <a:ext cx="8229600" cy="2016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амый надежный способ профилактики наркомании – решительный отказ от первого приема наркотик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Несанкционированная продажа, распространение и хранение препаратов, содержащих наркотические вещества, преследуется по закон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440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Garamond"/>
              </a:rPr>
              <a:t>3. Табакокурение</a:t>
            </a:r>
            <a:br>
              <a:rPr sz="2000"/>
            </a:b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Табакокурение – наиболее распространенная вредная привычка, отрицательно влияющая на здоровье курильщика и окружающих людей.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68360" y="2060640"/>
          <a:ext cx="8229600" cy="4608000"/>
        </p:xfrm>
        <a:graphic>
          <a:graphicData uri="http://schemas.openxmlformats.org/drawingml/2006/table">
            <a:tbl>
              <a:tblPr/>
              <a:tblGrid>
                <a:gridCol w="2232000"/>
                <a:gridCol w="59976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курит от случая к случаю не более 2 – 5 сигарет в день; привыкание к табаку отсутству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испытывает нестойкое влечение к табаку, выкуривает 5 – 10 сигарет в сутки, может бросить курить самостоятель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ернут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15 – 20 сигарет в сутки, у него формируется физическая зависимость, при попытке бросить курить у него развивается тяжелое физическое и психическое состоя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9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40 – 50 сигарет в сутки, часто натощак и среди ночи; ощущает непреодолимое влечение к табак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едки необратимые изменения в нервной системе, внутренних органах и кровеносных сосуд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  <p:sp>
        <p:nvSpPr>
          <p:cNvPr id="605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50920" y="1628640"/>
            <a:ext cx="8713800" cy="936720"/>
          </a:xfrm>
          <a:prstGeom prst="downArrowCallout">
            <a:avLst>
              <a:gd name="adj1" fmla="val -180115"/>
              <a:gd name="adj2" fmla="val 232561"/>
              <a:gd name="adj3" fmla="val 16667"/>
              <a:gd name="adj4" fmla="val 66667"/>
            </a:avLst>
          </a:prstGeom>
          <a:solidFill>
            <a:srgbClr val="cc9900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69696"/>
          </a:solidFill>
          <a:ln w="9360">
            <a:solidFill>
              <a:srgbClr val="cc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Наиболее опасные для организма человека </a:t>
            </a:r>
            <a:br>
              <a:rPr sz="2400"/>
            </a:b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компоненты табачного дыма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353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котин – один из самых опасных ядов, по ядовитости равен синильной кисл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0920" y="4508640"/>
            <a:ext cx="8637480" cy="865080"/>
          </a:xfrm>
          <a:prstGeom prst="upArrowCallout">
            <a:avLst>
              <a:gd name="adj1" fmla="val -197237"/>
              <a:gd name="adj2" fmla="val 249615"/>
              <a:gd name="adj3" fmla="val 16667"/>
              <a:gd name="adj4" fmla="val 666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ышьяк   - сильный канцероген, способствует развитию рака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435640" y="2565360"/>
            <a:ext cx="3240000" cy="936720"/>
          </a:xfrm>
          <a:prstGeom prst="leftArrow">
            <a:avLst>
              <a:gd name="adj1" fmla="val 50000"/>
              <a:gd name="adj2" fmla="val 8647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ммиак – разрушает слизист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олочку р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4000" y="2565360"/>
            <a:ext cx="3600360" cy="936720"/>
          </a:xfrm>
          <a:prstGeom prst="rightArrow">
            <a:avLst>
              <a:gd name="adj1" fmla="val 50000"/>
              <a:gd name="adj2" fmla="val 9609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нильная кислота –сильнейший я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окирует клеточное дых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" y="3645000"/>
            <a:ext cx="3600360" cy="917640"/>
          </a:xfrm>
          <a:prstGeom prst="rightArrow">
            <a:avLst>
              <a:gd name="adj1" fmla="val 50000"/>
              <a:gd name="adj2" fmla="val 9808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бачный деготь – способству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ю злокачественных опухо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435640" y="3645000"/>
            <a:ext cx="3313080" cy="936360"/>
          </a:xfrm>
          <a:prstGeom prst="leftArrow">
            <a:avLst>
              <a:gd name="adj1" fmla="val 50000"/>
              <a:gd name="adj2" fmla="val 8845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гар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а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зко уменьш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держание кислород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3957480" y="2943360"/>
            <a:ext cx="1229040" cy="9712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0" y="5445000"/>
            <a:ext cx="1068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Наиболее эффективный способ профилактики табакоку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олный и категорический отказ от таб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4. Болезни, передаваемые половым путем.</a:t>
            </a:r>
            <a:br>
              <a:rPr sz="2400"/>
            </a:b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Болезни, передаваемые половым путем – это инфекционные заболевания, объединенные в одну группу по преимущественному способу заражения.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95280" y="1197000"/>
          <a:ext cx="8229600" cy="5583240"/>
        </p:xfrm>
        <a:graphic>
          <a:graphicData uri="http://schemas.openxmlformats.org/drawingml/2006/table">
            <a:tbl>
              <a:tblPr/>
              <a:tblGrid>
                <a:gridCol w="1882800"/>
                <a:gridCol w="2376360"/>
                <a:gridCol w="2232000"/>
                <a:gridCol w="17384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звание и инкубационный 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словия передачи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зможные послед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норе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5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 : жар, жжение, выде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.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 быстро проходя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есплодие, поражение сердца и сустав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фи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4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пасности подвергаются члены семь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явление безболезненной язвы, увеличение лимфатических узлов, появление сып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азвитие паралича, слабоумие, рождение детей с пороками развит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Трихомони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 – 15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т больной матери к новорожденном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: бессимптом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, жж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спаление внутренних половых органов, бесплод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рп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оли внизу живота и в паху. Покраснение, появление пузырь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вторения и рециди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андид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уд, жжение, болезненность половых органов, выделения (у женщин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лительное течение. Повторные обостр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620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95280" y="620280"/>
            <a:ext cx="4038480" cy="2592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еры профил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облюдение правил личной гигиен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тказ от случайных половых связ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Безопасное сексуальное повед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Немедленное обращ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 в первые 2 часа) в кожно – венерологический диспанс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0" y="620640"/>
            <a:ext cx="4038480" cy="2664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Запом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После болезней передающихся половым путем не возникает иммунитета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324000" y="3573360"/>
            <a:ext cx="8229600" cy="24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Заражение заболеваниями, передаваемыми половым путем, других лиц согласно кодексу РФ является уголовным преступлением и наказывается штрафом или лишением свободы на срок до двух л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404280"/>
            <a:ext cx="8540640" cy="129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00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АЛКОГОЛИЗМ</a:t>
            </a:r>
            <a:br>
              <a:rPr sz="23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Алкоголизм – хроническое заболевание, обусловленное систематическим, частым и неумеренным употреблением спиртных напитков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931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en-US" sz="2200" spc="-1" strike="noStrike">
                <a:solidFill>
                  <a:srgbClr val="ff9900"/>
                </a:solidFill>
                <a:latin typeface="Tahoma"/>
              </a:rPr>
              <a:t>Стадии развития алкоголизм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755640" y="2276640"/>
          <a:ext cx="7464600" cy="4065480"/>
        </p:xfrm>
        <a:graphic>
          <a:graphicData uri="http://schemas.openxmlformats.org/drawingml/2006/table">
            <a:tbl>
              <a:tblPr/>
              <a:tblGrid>
                <a:gridCol w="3732120"/>
                <a:gridCol w="373248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ачальная (доалкогольн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начинает употреблять спиртные напитки чаще обычного, но стойкая тяга к алкоголю у него еще не закрепилас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грожающая (порогов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уже достаточно сильно пристрастился к спиртному, но у него есть еще возможность остановить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итическ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потребление алкогольных напитков для человека становиться потребностью, которая может стать необратимо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Хроническая (полный алкоголизм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еспособность человека контролировать свои действия и поступки; частые и продолжительные запои; тяжелое опьянение с потерей сознания, а иногда и с остановкой дых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572" name=""/>
          <p:cNvSpPr/>
          <p:nvPr/>
        </p:nvSpPr>
        <p:spPr>
          <a:xfrm>
            <a:off x="7251480" y="0"/>
            <a:ext cx="18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                      </a:t>
            </a: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Последствия</a:t>
            </a:r>
            <a:br>
              <a:rPr sz="2300"/>
            </a:b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                         злоупотребления алкоголем</a:t>
            </a:r>
            <a:endParaRPr b="0" lang="en-US" sz="2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здоровь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нервн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деятельности сердечно – сосудист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расстройство работы органов пищеваре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сопротивляемости организма  многим инфекционным и простудным заболевани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социального положени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эффективности труда, утрата профессиональных навык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Утрата нравственных регуляторов поведения (совесть, долг, достоинство, ответственность, тактичность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Безответственные действия, приводящие к травмам и несчастным случаям в быту, на транспорте и производств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637236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авда о пив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ногие считаю, что употребление пива совсем не вредно, а даже полезно. Пиво не считают алкогольным напитком, и именно с него начинается алкоголизация молодё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0" y="1890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слайд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                                             </a:t>
            </a: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Содержание водки и спирта в различных сортах пив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468360" y="1989000"/>
          <a:ext cx="8229600" cy="4321080"/>
        </p:xfrm>
        <a:graphic>
          <a:graphicData uri="http://schemas.openxmlformats.org/drawingml/2006/table">
            <a:tbl>
              <a:tblPr/>
              <a:tblGrid>
                <a:gridCol w="2809800"/>
                <a:gridCol w="1452600"/>
                <a:gridCol w="1468440"/>
                <a:gridCol w="2498760"/>
              </a:tblGrid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п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цент алког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ирта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ки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епан Раз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и медвед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клер (безалкогольно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енигсб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ейнек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чкар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опр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"/>
          <p:cNvSpPr/>
          <p:nvPr/>
        </p:nvSpPr>
        <p:spPr>
          <a:xfrm>
            <a:off x="4572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Профилактика алкого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слайд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1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Процент содержания алкоголя в различных сортах пи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71640" y="1628640"/>
            <a:ext cx="7848360" cy="5183280"/>
            <a:chOff x="971640" y="1628640"/>
            <a:chExt cx="7848360" cy="5183280"/>
          </a:xfrm>
        </p:grpSpPr>
        <p:pic>
          <p:nvPicPr>
            <p:cNvPr id="585" name="" descr=""/>
            <p:cNvPicPr/>
            <p:nvPr/>
          </p:nvPicPr>
          <p:blipFill>
            <a:blip r:embed="rId1"/>
            <a:stretch/>
          </p:blipFill>
          <p:spPr>
            <a:xfrm>
              <a:off x="971640" y="1628640"/>
              <a:ext cx="7848360" cy="51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851280" y="6165720"/>
              <a:ext cx="68112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5508720" y="0"/>
            <a:ext cx="456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250"/>
                            </p:stCondLst>
                            <p:childTnLst>
                              <p:par>
                                <p:cTn id="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9383b3"/>
                </a:solidFill>
                <a:latin typeface="Times New Roman"/>
              </a:rPr>
              <a:t>             </a:t>
            </a:r>
            <a:r>
              <a:rPr b="0" lang="en-US" sz="15100" spc="-1" strike="noStrike">
                <a:solidFill>
                  <a:srgbClr val="9383b3"/>
                </a:solidFill>
                <a:latin typeface="Times New Roman"/>
              </a:rPr>
              <a:t>?</a:t>
            </a:r>
            <a:endParaRPr b="0" lang="en-US" sz="15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Задумайтесь, так ли безобидно пиво!?</a:t>
            </a: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Стоит ли тратить свою жизнь на такое опасное удовольствие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0" y="1159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Злоупотребление алкоголем сокращает жизнь на 10 – 15 л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Лучший способ профилактики алкоголизма – трезвый образ жизн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Продажа алкогольной продукции лицам моложе 18 лет преследуется по закон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51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 – болезнь, характеризующаяся непреодолимым влечением к наркотикам, вызывающая в малых дозах эйфорию, в больших – оглушение, наркотический сон, смерть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тадии формирование наркотической завис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539640" y="2205000"/>
          <a:ext cx="8147160" cy="4097520"/>
        </p:xfrm>
        <a:graphic>
          <a:graphicData uri="http://schemas.openxmlformats.org/drawingml/2006/table">
            <a:tbl>
              <a:tblPr/>
              <a:tblGrid>
                <a:gridCol w="4073760"/>
                <a:gridCol w="4073400"/>
              </a:tblGrid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ч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Желание просто попробовать наркотик, стремление убежать от трудностей, потребность сделать жизнь более интересн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Осознанное привык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ланирование приема наркотиков, наркотики становятся необходимым атрибутом отдых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Формирование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ркотики не приносят удовольствия, а употребляются для приведения организма в норму; возникают проблемы со здоровьем; теряется контроль над поведени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Завершение формирования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остоянная потребность в наркотиках; большинство наркоманов, дошедших до этой стадии, погибают от передозиров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</a:tbl>
          </a:graphicData>
        </a:graphic>
      </p:graphicFrame>
      <p:sp>
        <p:nvSpPr>
          <p:cNvPr id="597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7:39:55Z</dcterms:created>
  <dc:creator>Ирина</dc:creator>
  <dc:description/>
  <dc:language>en-US</dc:language>
  <cp:lastModifiedBy>Ирина</cp:lastModifiedBy>
  <dcterms:modified xsi:type="dcterms:W3CDTF">2010-06-09T05:34:25Z</dcterms:modified>
  <cp:revision>23</cp:revision>
  <dc:subject/>
  <dc:title>ФАКТОРЫ,                      РАЗРУШАЮЩИЕ                                                      ЗДОРОВЬЕ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